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120A5AF-22EB-4884-9A14-DAC752AB28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731880"/>
            <a:ext cx="4476960" cy="3357360"/>
          </a:xfrm>
          <a:prstGeom prst="rect">
            <a:avLst/>
          </a:prstGeom>
          <a:ln w="0">
            <a:noFill/>
          </a:ln>
        </p:spPr>
      </p:sp>
      <p:sp>
        <p:nvSpPr>
          <p:cNvPr id="12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300" spc="-1" strike="noStrike" u="sng">
                <a:solidFill>
                  <a:srgbClr val="000000"/>
                </a:solidFill>
                <a:uFillTx/>
                <a:latin typeface="Arial"/>
              </a:rPr>
              <a:t>This presentation does not fulfill the employer’s training obligations under 29 CFR 1910.1030</a:t>
            </a:r>
            <a:r>
              <a:rPr b="1"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hearing or breaking of contaminated needles is prohibit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minated needles and other contaminated sharps must not be bent, recapped, or removed except as noted below:</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employer can demonstrate that no alternative is feasible or that such action is required by a specific medical or dental procedure.</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Such bending, recapping or needle removal must be accomplished through the use of a mechanical device or a one-handed techniqu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work practice controls are listed in 1910.1030(d)(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mployer must ensure that appropriate PPE in the appropriate sizes is readily accessible at the worksite or is issued to employees.  Hypoallergenic gloves, glove liners, powderless gloves, or other similar alternatives must be readily accessible to those employees who are allergic to the gloves normally provid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work site” refers not only to permanent fixed facilities such as hospitals, dental/medical offices, etc., but also includes temporary non-fixed workplaces (blood mobiles, ambulances,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731880"/>
            <a:ext cx="4476960" cy="3357360"/>
          </a:xfrm>
          <a:prstGeom prst="rect">
            <a:avLst/>
          </a:prstGeom>
          <a:ln w="0">
            <a:noFill/>
          </a:ln>
        </p:spPr>
      </p:sp>
      <p:sp>
        <p:nvSpPr>
          <p:cNvPr id="15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ppropriate disinfectants include diluted bleach solution, EPA registered tuberculocides, and sterilants.  The lists of these EPA Registered Products are available from the National Antimicrobial Information Network at (800) 447-634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731880"/>
            <a:ext cx="4476960" cy="3357360"/>
          </a:xfrm>
          <a:prstGeom prst="rect">
            <a:avLst/>
          </a:prstGeom>
          <a:ln w="0">
            <a:noFill/>
          </a:ln>
        </p:spPr>
      </p:sp>
      <p:sp>
        <p:nvSpPr>
          <p:cNvPr id="15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731880"/>
            <a:ext cx="4476960" cy="3357360"/>
          </a:xfrm>
          <a:prstGeom prst="rect">
            <a:avLst/>
          </a:prstGeom>
          <a:ln w="0">
            <a:noFill/>
          </a:ln>
        </p:spPr>
      </p:sp>
      <p:sp>
        <p:nvSpPr>
          <p:cNvPr id="15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a facility uses Universal Precautions in the handling of all soiled laundry, alternative labeling or color-coding is sufficient if it permits all employees to recognize that the containers require handling in compliance with Universal Preca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731880"/>
            <a:ext cx="4476960" cy="3357360"/>
          </a:xfrm>
          <a:prstGeom prst="rect">
            <a:avLst/>
          </a:prstGeom>
          <a:ln w="0">
            <a:noFill/>
          </a:ln>
        </p:spPr>
      </p:sp>
      <p:sp>
        <p:nvSpPr>
          <p:cNvPr id="15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st be provided according to U.S. Public Health Service (USPHS) recommendations.  See www.usphs.gov for more informa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03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Bloodborne pathogens” means pathogenic microorganisms that are present in human blood and can cause disease in humans.  These pathogens include among others hepatitis B virus (HBV), which causes hepatitis B; human immunodeficiency virus (HIV), which causes AIDS; hepatitis C virus and other pathogens, such as those that cause malar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Other  potentially infectious materials” mea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following human body fluids:  semen, vaginal secretions, cerebrospinal fluid, synovial fluid, pleural fluid, pericardial fluid, peritoneal fluid, amniotic fluid, saliva in dental procedures, any body fluid that is visibly contaminated with blood, and all body fluids in situations where it is difficult or impossible to differentiate between bodily flu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ny unfixed tissue or organ (other than intact skin) from a human (living or dead); 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HIV-containing cell or tissue cultures, organ cultures, and HIV- or HBV-containing culture medium or other solutions; and blood, organs, or other tissues from experimental animals infected with HIV or HBV.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731880"/>
            <a:ext cx="4476960" cy="3357360"/>
          </a:xfrm>
          <a:prstGeom prst="rect">
            <a:avLst/>
          </a:prstGeom>
          <a:ln w="0">
            <a:noFill/>
          </a:ln>
        </p:spPr>
      </p:sp>
      <p:sp>
        <p:nvSpPr>
          <p:cNvPr id="15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1910.1030 Appendix A </a:t>
            </a:r>
            <a:endParaRPr b="0" lang="en-US" sz="1200" spc="-1" strike="noStrike">
              <a:solidFill>
                <a:srgbClr val="000000"/>
              </a:solidFill>
              <a:latin typeface="Arial"/>
            </a:endParaRPr>
          </a:p>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Hepatitis B Vaccine Declination (Mandato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 understand that due to my occupational exposure to blood or other potentially infectious materials I may be at risk of acquiring hepatitis B virus (HBV) infection. I have been given the opportunity to be vaccinated with hepatitis B vaccine, at no charge to myself. However, I       decline hepatitis B vaccination at this time. I understand that by declining this vaccine, I continue to be at risk of acquiring hepatitis B, a serious disease. If in the future I continue to have occupational exposure to blood or other potentially infectious materials and I want to be vaccinated with hepatitis B vaccine, I can receive the vaccination series at no charge to 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his form must be used and cannot be edi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731880"/>
            <a:ext cx="4476960" cy="3357360"/>
          </a:xfrm>
          <a:prstGeom prst="rect">
            <a:avLst/>
          </a:prstGeom>
          <a:ln w="0">
            <a:noFill/>
          </a:ln>
        </p:spPr>
      </p:sp>
      <p:sp>
        <p:nvSpPr>
          <p:cNvPr id="16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eatment should begin as soon as possible after exposure, preferably within 24 hours, and no later than 7 day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731880"/>
            <a:ext cx="4476960" cy="3357360"/>
          </a:xfrm>
          <a:prstGeom prst="rect">
            <a:avLst/>
          </a:prstGeom>
          <a:ln w="0">
            <a:noFill/>
          </a:ln>
        </p:spPr>
      </p:sp>
      <p:sp>
        <p:nvSpPr>
          <p:cNvPr id="16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3), (4) &amp; (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employee consents to baseline blood collection, but does not give consent at that time for HIV serologic testing, the sample must be preserved for at least 90 day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U.S. Public Health Service guidelines:  </a:t>
            </a:r>
            <a:r>
              <a:rPr b="0" i="1" lang="en-US" sz="1200" spc="-1" strike="noStrike">
                <a:solidFill>
                  <a:srgbClr val="000000"/>
                </a:solidFill>
                <a:latin typeface="Arial"/>
              </a:rPr>
              <a:t>Updated U.S. Public Health Service Guidelines for the Management of Occupational Exposure to HBV, HCV, and HIV and Recommendations for Postexposure Prophylaxis</a:t>
            </a:r>
            <a:r>
              <a:rPr b="0" lang="en-US" sz="1200" spc="-1" strike="noStrike">
                <a:solidFill>
                  <a:srgbClr val="000000"/>
                </a:solidFill>
                <a:latin typeface="Arial"/>
              </a:rPr>
              <a:t>, June 29, 2001.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all the National Clinician’s Hotline at 1-888-448-49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731880"/>
            <a:ext cx="4476960" cy="3357360"/>
          </a:xfrm>
          <a:prstGeom prst="rect">
            <a:avLst/>
          </a:prstGeom>
          <a:ln w="0">
            <a:noFill/>
          </a:ln>
        </p:spPr>
      </p:sp>
      <p:sp>
        <p:nvSpPr>
          <p:cNvPr id="16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predominantly fluorescent orange or orange-red with lettering and symbols in a contrasting col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affixed as close as feasible to the container by string, wire, adhesive, or other method that prevents their loss or unintentional remova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0520" y="731880"/>
            <a:ext cx="4476960" cy="3357360"/>
          </a:xfrm>
          <a:prstGeom prst="rect">
            <a:avLst/>
          </a:prstGeom>
          <a:ln w="0">
            <a:noFill/>
          </a:ln>
        </p:spPr>
      </p:sp>
      <p:sp>
        <p:nvSpPr>
          <p:cNvPr id="1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 &amp; (h)(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records must be maintained for 3 years from the date training occurred and include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es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Contents or a summary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qualifications of persons conducting the training</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job titles of all persons attending the training ses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0520" y="731880"/>
            <a:ext cx="4476960" cy="3357360"/>
          </a:xfrm>
          <a:prstGeom prst="rect">
            <a:avLst/>
          </a:prstGeom>
          <a:ln w="0">
            <a:noFill/>
          </a:ln>
        </p:spPr>
      </p:sp>
      <p:sp>
        <p:nvSpPr>
          <p:cNvPr id="1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vii) &amp; (vii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erson conducting the training must be knowledgeable in the subject matter covered by the elements contained in the training program as it relates to the workplace that the training will addres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allow video or distance training, but employees still must have access to a “live” person (even if by phone or electronically) to answer questions – i.e., there must be an opportunity for interactive questions and answers with the person conducting the training se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90520" y="731880"/>
            <a:ext cx="4476960" cy="3357360"/>
          </a:xfrm>
          <a:prstGeom prst="rect">
            <a:avLst/>
          </a:prstGeom>
          <a:ln w="0">
            <a:noFill/>
          </a:ln>
        </p:spPr>
      </p:sp>
      <p:sp>
        <p:nvSpPr>
          <p:cNvPr id="1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ccess to employee exposure and medical records:  1910.102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762120"/>
            <a:ext cx="4476600" cy="3357360"/>
          </a:xfrm>
          <a:prstGeom prst="rect">
            <a:avLst/>
          </a:prstGeom>
          <a:ln w="0">
            <a:noFill/>
          </a:ln>
        </p:spPr>
      </p:sp>
      <p:sp>
        <p:nvSpPr>
          <p:cNvPr id="172" name="PlaceHolder 2"/>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urpose of the sharps injury log is to aid in the evaluation of devices being used in the workplace and to quickly identify problem areas in the facility.  It must be reviewed at least annually during the review and update of the Exposure Control Pla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data are made available to other parties (e.g., supervisors, safety committees, employees), any information that could be used to identify the employee must be withheld to protect the employee’s privacy.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 OSHA’s recordkeeping rule.  The sharps injury log must be maintained for the period required by 29 CFR 1904.6.</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90520" y="731880"/>
            <a:ext cx="4476960" cy="3357360"/>
          </a:xfrm>
          <a:prstGeom prst="rect">
            <a:avLst/>
          </a:prstGeom>
          <a:ln w="0">
            <a:noFill/>
          </a:ln>
        </p:spPr>
      </p:sp>
      <p:sp>
        <p:nvSpPr>
          <p:cNvPr id="1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Bloodborne Pathogens, see OSHA’s web site at www.osha.go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Bloodborne Pathogens standard, 29 CFR 1910.1030, does not apply to construction, agriculture or mariti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reasonably anticipated” contact means potential contact as well as actual contact with blood or other potentially infectious materi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scope of the Bloodborne Pathogens standard is not limited to employees in these jobs.  The hazard of exposure to infectious materials affects employees in many types of industries and is not restricted to the health care indu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t is estimated that 600,000 to 800,000 needlestick injuries occur each year in the United Stat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Contaminated sharps” means any contaminated object that can penetrate the skin including, but not limited to, needles, scalpels, broken glass, broken capillary tubes, and exposed ends of dental wi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xposure control plan is the key provision of the standard because it requires the employer to identify individuals who will receive the training, protective equipment, vaccination and other protections of the standar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see OSHA Instruction CPL 02-02-069, </a:t>
            </a:r>
            <a:r>
              <a:rPr b="0" i="1" lang="en-US" sz="1200" spc="-1" strike="noStrike">
                <a:solidFill>
                  <a:srgbClr val="000000"/>
                </a:solidFill>
                <a:latin typeface="Arial"/>
              </a:rPr>
              <a:t>Enforcement Procedures for the Occupational Exposure to Bloodborne Pathogens Standard</a:t>
            </a:r>
            <a:r>
              <a:rPr b="0" lang="en-US" sz="1200" spc="-1" strike="noStrike">
                <a:solidFill>
                  <a:srgbClr val="000000"/>
                </a:solidFill>
                <a:latin typeface="Arial"/>
              </a:rPr>
              <a:t>, Appendix D, </a:t>
            </a:r>
            <a:r>
              <a:rPr b="0" i="1" lang="en-US" sz="1200" spc="-1" strike="noStrike">
                <a:solidFill>
                  <a:srgbClr val="000000"/>
                </a:solidFill>
                <a:latin typeface="Arial"/>
              </a:rPr>
              <a:t>Model Exposure Control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must be consulted are those non-managerial employees responsible for direct patient care who are potentially exposed to injuries from contaminated shar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niversal Precautions is an approach to infection control used to protect employees from exposure to all human blood and other potentially infectious materia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lternative concepts in infection control are called Body Substance Isolation (BSI) and Standard Precautions.  These methods define all body fluids and substances as infectious.  These concepts are acceptable alternatives to Universal Precautions provided that facilities using them adhere to all other provisions of this standa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s must solicit input from non-managerial employees responsible for direct patient care who are potentially exposed to injuries from contaminated sharps in the identification, evaluation and selection of engineering and work practice contr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402C2-BE4F-4BB8-89B7-1356AA08C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8131A-21B9-4AFD-AF3B-581E7500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523C2-5292-4857-AA54-B896E9ACC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4B900-6EBF-4B41-A6B8-EF6983171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32F2D-55A1-4336-A9F9-B052A1967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BF777-9937-4BF2-8C6F-3BD3F551A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7F007-4FFD-4334-97EF-69987EC5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0BE1E-D2B4-44AE-929B-13FBE9B58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A275F-7816-4B79-9DF6-181D9F3EE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3F2A-A906-432E-BB02-592EAEA5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DAD0-DF89-4032-8B39-4E0DECD57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96D91-2232-487E-8B9E-6F8A5E155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C98F-FBE2-4FA1-A31E-65AF1494D13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loodborne Pathogens</a:t>
            </a:r>
            <a:endParaRPr b="0" lang="en-US" sz="4400" spc="-1" strike="noStrike">
              <a:solidFill>
                <a:srgbClr val="000000"/>
              </a:solidFill>
              <a:latin typeface="Times New Roman"/>
            </a:endParaRPr>
          </a:p>
        </p:txBody>
      </p:sp>
      <p:sp>
        <p:nvSpPr>
          <p:cNvPr id="49"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BBP1" descr=""/>
          <p:cNvPicPr/>
          <p:nvPr/>
        </p:nvPicPr>
        <p:blipFill>
          <a:blip r:embed="rId1"/>
          <a:stretch/>
        </p:blipFill>
        <p:spPr>
          <a:xfrm>
            <a:off x="3138480" y="1949400"/>
            <a:ext cx="2887560" cy="3819600"/>
          </a:xfrm>
          <a:prstGeom prst="rect">
            <a:avLst/>
          </a:prstGeom>
          <a:ln w="0">
            <a:noFill/>
          </a:ln>
        </p:spPr>
      </p:pic>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3D19C9A4-ED39-463E-8303-3D85B047B5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969840" y="1871640"/>
            <a:ext cx="408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employee exposure by either removing the hazard or isolating the worker.  Examples:</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ineering Controls</a:t>
            </a:r>
            <a:endParaRPr b="1" lang="en-US" sz="4000" spc="-1" strike="noStrike">
              <a:solidFill>
                <a:srgbClr val="ffff00"/>
              </a:solidFill>
              <a:latin typeface="Arial"/>
            </a:endParaRPr>
          </a:p>
        </p:txBody>
      </p:sp>
      <p:sp>
        <p:nvSpPr>
          <p:cNvPr id="69" name="PlaceHolder 2"/>
          <p:cNvSpPr>
            <a:spLocks noGrp="1"/>
          </p:cNvSpPr>
          <p:nvPr>
            <p:ph/>
          </p:nvPr>
        </p:nvSpPr>
        <p:spPr>
          <a:xfrm>
            <a:off x="990720" y="3695760"/>
            <a:ext cx="7772400" cy="2517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disposal container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sheathing needl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r medical device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leless system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with engineered sharps injury protection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sharpsco" descr=""/>
          <p:cNvPicPr/>
          <p:nvPr/>
        </p:nvPicPr>
        <p:blipFill>
          <a:blip r:embed="rId1"/>
          <a:stretch/>
        </p:blipFill>
        <p:spPr>
          <a:xfrm>
            <a:off x="5602320" y="1905120"/>
            <a:ext cx="2795400" cy="30477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DBDABDB-B77D-466E-8192-4168EEB86D7F}" type="slidenum">
              <a:t>10</a:t>
            </a:fld>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r Medical Devices</a:t>
            </a:r>
            <a:endParaRPr b="1" lang="en-US" sz="4000" spc="-1" strike="noStrike">
              <a:solidFill>
                <a:srgbClr val="ffff00"/>
              </a:solidFill>
              <a:latin typeface="Arial"/>
            </a:endParaRPr>
          </a:p>
        </p:txBody>
      </p:sp>
      <p:sp>
        <p:nvSpPr>
          <p:cNvPr id="72" name="PlaceHolder 2"/>
          <p:cNvSpPr>
            <a:spLocks noGrp="1"/>
          </p:cNvSpPr>
          <p:nvPr>
            <p:ph/>
          </p:nvPr>
        </p:nvSpPr>
        <p:spPr>
          <a:xfrm>
            <a:off x="68544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edless Systems:</a:t>
            </a:r>
            <a:r>
              <a:rPr b="0" lang="en-US" sz="2400" spc="-1" strike="noStrike">
                <a:solidFill>
                  <a:srgbClr val="ffffff"/>
                </a:solidFill>
                <a:latin typeface="Arial"/>
              </a:rPr>
              <a:t>  a device that does not use needles for the collection or withdrawal of body fluids, or for the administration of medication or fluid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arps with Engineered Sharps Injury Protections:  </a:t>
            </a:r>
            <a:r>
              <a:rPr b="0" lang="en-US" sz="2400" spc="-1" strike="noStrike">
                <a:solidFill>
                  <a:srgbClr val="ffffff"/>
                </a:solidFill>
                <a:latin typeface="Arial"/>
              </a:rPr>
              <a:t> a  non-needle sharp or a needle device used for withdrawing body fluids, accessing a vein or artery, or administering medications or other fluids, with a built-in safety feature or mechanism that effectively reduces the risk of an exposure incid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70C9A95-55CD-4133-8FB6-B79D91B6A1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2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ork Practice Controls</a:t>
            </a:r>
            <a:endParaRPr b="1" lang="en-US" sz="4000" spc="-1" strike="noStrike">
              <a:solidFill>
                <a:srgbClr val="ffff00"/>
              </a:solidFill>
              <a:latin typeface="Arial"/>
            </a:endParaRPr>
          </a:p>
        </p:txBody>
      </p:sp>
      <p:sp>
        <p:nvSpPr>
          <p:cNvPr id="74" name="PlaceHolder 2"/>
          <p:cNvSpPr>
            <a:spLocks noGrp="1"/>
          </p:cNvSpPr>
          <p:nvPr>
            <p:ph/>
          </p:nvPr>
        </p:nvSpPr>
        <p:spPr>
          <a:xfrm>
            <a:off x="685800" y="3201840"/>
            <a:ext cx="4495680" cy="26654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hands after removing gloves and as soon as possible after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nd or break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smoking in work areas</a:t>
            </a:r>
            <a:endParaRPr b="0" lang="en-US" sz="2400" spc="-1" strike="noStrike">
              <a:solidFill>
                <a:srgbClr val="ffffff"/>
              </a:solidFill>
              <a:latin typeface="Arial"/>
            </a:endParaRPr>
          </a:p>
        </p:txBody>
      </p:sp>
      <p:sp>
        <p:nvSpPr>
          <p:cNvPr id="75" name=""/>
          <p:cNvSpPr/>
          <p:nvPr/>
        </p:nvSpPr>
        <p:spPr>
          <a:xfrm>
            <a:off x="692280" y="1708200"/>
            <a:ext cx="436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the likelihood of exposure by altering how a task is performed.  Examples:</a:t>
            </a:r>
            <a:endParaRPr b="0" lang="en-US" sz="2400" spc="-1" strike="noStrike">
              <a:solidFill>
                <a:srgbClr val="000000"/>
              </a:solidFill>
              <a:latin typeface="Times New Roman"/>
            </a:endParaRPr>
          </a:p>
        </p:txBody>
      </p:sp>
      <p:pic>
        <p:nvPicPr>
          <p:cNvPr id="76" name="handwashing1" descr=""/>
          <p:cNvPicPr/>
          <p:nvPr/>
        </p:nvPicPr>
        <p:blipFill>
          <a:blip r:embed="rId1"/>
          <a:srcRect l="4163" t="0" r="0" b="5551"/>
          <a:stretch/>
        </p:blipFill>
        <p:spPr>
          <a:xfrm>
            <a:off x="5638680" y="1863720"/>
            <a:ext cx="2951280" cy="2455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181FBF4-DDDE-4C5B-8E5D-F0E5DE74FE22}" type="slidenum">
              <a:t>12</a:t>
            </a:fld>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sonal Protective Equipment</a:t>
            </a:r>
            <a:endParaRPr b="1" lang="en-US" sz="4000" spc="-1" strike="noStrike">
              <a:solidFill>
                <a:srgbClr val="ffff00"/>
              </a:solidFill>
              <a:latin typeface="Arial"/>
            </a:endParaRPr>
          </a:p>
        </p:txBody>
      </p:sp>
      <p:sp>
        <p:nvSpPr>
          <p:cNvPr id="78" name="PlaceHolder 2"/>
          <p:cNvSpPr>
            <a:spLocks noGrp="1"/>
          </p:cNvSpPr>
          <p:nvPr>
            <p:ph/>
          </p:nvPr>
        </p:nvSpPr>
        <p:spPr>
          <a:xfrm>
            <a:off x="685440" y="1762200"/>
            <a:ext cx="51325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clothing or equipment worn by an employee for protection against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perly cleaned, laundered, repaired, and disposed of at no cost to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removed when leaving area or upon contamination</a:t>
            </a:r>
            <a:endParaRPr b="0" lang="en-US" sz="2400" spc="-1" strike="noStrike">
              <a:solidFill>
                <a:srgbClr val="ffffff"/>
              </a:solidFill>
              <a:latin typeface="Arial"/>
            </a:endParaRPr>
          </a:p>
        </p:txBody>
      </p:sp>
      <p:pic>
        <p:nvPicPr>
          <p:cNvPr id="79" name="Untitled-1" descr=""/>
          <p:cNvPicPr/>
          <p:nvPr/>
        </p:nvPicPr>
        <p:blipFill>
          <a:blip r:embed="rId1"/>
          <a:stretch/>
        </p:blipFill>
        <p:spPr>
          <a:xfrm>
            <a:off x="6183360" y="1871640"/>
            <a:ext cx="2228760" cy="2806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9BF6E33-2382-436D-9104-743D63FDB600}" type="slidenum">
              <a:t>13</a:t>
            </a:fld>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PPE</a:t>
            </a:r>
            <a:endParaRPr b="1" lang="en-US" sz="4000" spc="-1" strike="noStrike">
              <a:solidFill>
                <a:srgbClr val="ffff00"/>
              </a:solidFill>
              <a:latin typeface="Arial"/>
            </a:endParaRPr>
          </a:p>
        </p:txBody>
      </p:sp>
      <p:sp>
        <p:nvSpPr>
          <p:cNvPr id="81" name="PlaceHolder 2"/>
          <p:cNvSpPr>
            <a:spLocks noGrp="1"/>
          </p:cNvSpPr>
          <p:nvPr>
            <p:ph/>
          </p:nvPr>
        </p:nvSpPr>
        <p:spPr>
          <a:xfrm>
            <a:off x="893520" y="1981080"/>
            <a:ext cx="36082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v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wn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shield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ye protec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uthpieces and resuscitation devices</a:t>
            </a:r>
            <a:endParaRPr b="0" lang="en-US" sz="2600" spc="-1" strike="noStrike">
              <a:solidFill>
                <a:srgbClr val="ffffff"/>
              </a:solidFill>
              <a:latin typeface="Arial"/>
            </a:endParaRPr>
          </a:p>
        </p:txBody>
      </p:sp>
      <p:pic>
        <p:nvPicPr>
          <p:cNvPr id="82" name="AdvResus" descr=""/>
          <p:cNvPicPr/>
          <p:nvPr/>
        </p:nvPicPr>
        <p:blipFill>
          <a:blip r:embed="rId1"/>
          <a:stretch/>
        </p:blipFill>
        <p:spPr>
          <a:xfrm>
            <a:off x="4987800" y="2027160"/>
            <a:ext cx="3048120" cy="2808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0AA5846-77AD-45A1-9FB0-885E6B8D3BE6}" type="slidenum">
              <a:t>14</a:t>
            </a:fld>
          </a:p>
        </p:txBody>
      </p:sp>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a:t>
            </a:r>
            <a:endParaRPr b="1" lang="en-US" sz="4000" spc="-1" strike="noStrike">
              <a:solidFill>
                <a:srgbClr val="ffff00"/>
              </a:solidFill>
              <a:latin typeface="Arial"/>
            </a:endParaRPr>
          </a:p>
        </p:txBody>
      </p:sp>
      <p:sp>
        <p:nvSpPr>
          <p:cNvPr id="84" name="PlaceHolder 2"/>
          <p:cNvSpPr>
            <a:spLocks noGrp="1"/>
          </p:cNvSpPr>
          <p:nvPr>
            <p:ph/>
          </p:nvPr>
        </p:nvSpPr>
        <p:spPr>
          <a:xfrm>
            <a:off x="961560" y="2790360"/>
            <a:ext cx="7774200" cy="3133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within the facility</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urface to be clean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oil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or procedures being performed</a:t>
            </a:r>
            <a:endParaRPr b="0" lang="en-US" sz="2400" spc="-1" strike="noStrike">
              <a:solidFill>
                <a:srgbClr val="ffffff"/>
              </a:solidFill>
              <a:latin typeface="Arial"/>
            </a:endParaRPr>
          </a:p>
        </p:txBody>
      </p:sp>
      <p:sp>
        <p:nvSpPr>
          <p:cNvPr id="85" name=""/>
          <p:cNvSpPr/>
          <p:nvPr/>
        </p:nvSpPr>
        <p:spPr>
          <a:xfrm>
            <a:off x="969840" y="1949400"/>
            <a:ext cx="782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a written schedule for cleaning and decontamination at the work site based on th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2D66760-74AA-47D6-B8AB-874C1753E950}" type="slidenum">
              <a:t>15</a:t>
            </a:fld>
          </a:p>
        </p:txBody>
      </p:sp>
    </p:spTree>
  </p:cSld>
  <p:transition spd="slow">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87" name="PlaceHolder 2"/>
          <p:cNvSpPr>
            <a:spLocks noGrp="1"/>
          </p:cNvSpPr>
          <p:nvPr>
            <p:ph/>
          </p:nvPr>
        </p:nvSpPr>
        <p:spPr>
          <a:xfrm>
            <a:off x="762120" y="3136680"/>
            <a:ext cx="4495680" cy="198108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ter completion of procedures, </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surfaces are contaminated, and</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e end of the work shift</a:t>
            </a:r>
            <a:endParaRPr b="0" lang="en-US" sz="2600" spc="-1" strike="noStrike">
              <a:solidFill>
                <a:srgbClr val="ffffff"/>
              </a:solidFill>
              <a:latin typeface="Arial"/>
            </a:endParaRPr>
          </a:p>
        </p:txBody>
      </p:sp>
      <p:pic>
        <p:nvPicPr>
          <p:cNvPr id="88" name="Disinfect%20Blood%20copy" descr=""/>
          <p:cNvPicPr/>
          <p:nvPr/>
        </p:nvPicPr>
        <p:blipFill>
          <a:blip r:embed="rId1"/>
          <a:srcRect l="0" t="0" r="0" b="7251"/>
          <a:stretch/>
        </p:blipFill>
        <p:spPr>
          <a:xfrm>
            <a:off x="5638680" y="2057400"/>
            <a:ext cx="2813040" cy="2203560"/>
          </a:xfrm>
          <a:prstGeom prst="rect">
            <a:avLst/>
          </a:prstGeom>
          <a:ln w="0">
            <a:noFill/>
          </a:ln>
        </p:spPr>
      </p:pic>
      <p:sp>
        <p:nvSpPr>
          <p:cNvPr id="89" name=""/>
          <p:cNvSpPr/>
          <p:nvPr/>
        </p:nvSpPr>
        <p:spPr>
          <a:xfrm>
            <a:off x="762120" y="1905120"/>
            <a:ext cx="4800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surfaces must be decontaminated with an appropriate disinfecta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AD58B76-53B4-4364-8B3C-F400FC032131}" type="slidenum">
              <a:t>16</a:t>
            </a:fld>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gulated Waste</a:t>
            </a:r>
            <a:endParaRPr b="1" lang="en-US" sz="4000" spc="-1" strike="noStrike">
              <a:solidFill>
                <a:srgbClr val="ffff00"/>
              </a:solidFill>
              <a:latin typeface="Arial"/>
            </a:endParaRPr>
          </a:p>
        </p:txBody>
      </p:sp>
      <p:pic>
        <p:nvPicPr>
          <p:cNvPr id="91" name="Red%20Bag%20Waste%20copy" descr=""/>
          <p:cNvPicPr/>
          <p:nvPr/>
        </p:nvPicPr>
        <p:blipFill>
          <a:blip r:embed="rId1"/>
          <a:stretch/>
        </p:blipFill>
        <p:spPr>
          <a:xfrm>
            <a:off x="6396120" y="1793880"/>
            <a:ext cx="1909800" cy="3235320"/>
          </a:xfrm>
          <a:prstGeom prst="rect">
            <a:avLst/>
          </a:prstGeom>
          <a:ln w="0">
            <a:noFill/>
          </a:ln>
        </p:spPr>
      </p:pic>
      <p:sp>
        <p:nvSpPr>
          <p:cNvPr id="92" name=""/>
          <p:cNvSpPr/>
          <p:nvPr/>
        </p:nvSpPr>
        <p:spPr>
          <a:xfrm>
            <a:off x="1246320" y="1716120"/>
            <a:ext cx="4545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laced in closeable, leak-proof containers built to contain all contents during handling, storing, transporting or shipping and be appropriately labeled or color-co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9192BD7-9C4C-4538-896F-47AEB555BA26}" type="slidenum">
              <a:t>17</a:t>
            </a:fld>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aundry</a:t>
            </a:r>
            <a:endParaRPr b="1" lang="en-US" sz="4000" spc="-1" strike="noStrike">
              <a:solidFill>
                <a:srgbClr val="ffff00"/>
              </a:solidFill>
              <a:latin typeface="Arial"/>
            </a:endParaRPr>
          </a:p>
        </p:txBody>
      </p:sp>
      <p:sp>
        <p:nvSpPr>
          <p:cNvPr id="94" name="PlaceHolder 2"/>
          <p:cNvSpPr>
            <a:spLocks noGrp="1"/>
          </p:cNvSpPr>
          <p:nvPr>
            <p:ph/>
          </p:nvPr>
        </p:nvSpPr>
        <p:spPr>
          <a:xfrm>
            <a:off x="609480" y="1528920"/>
            <a:ext cx="5029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andle contaminated laundry as little as possible and use PP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bagged or containerized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 sorting or rinsing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placed and transported in labeled or color-coded containers</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95" name="bioldry" descr=""/>
          <p:cNvPicPr/>
          <p:nvPr/>
        </p:nvPicPr>
        <p:blipFill>
          <a:blip r:embed="rId1">
            <a:lum bright="6000"/>
          </a:blip>
          <a:stretch/>
        </p:blipFill>
        <p:spPr>
          <a:xfrm>
            <a:off x="5791320" y="1676520"/>
            <a:ext cx="274320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481D6DB-26B8-4E53-9ED6-E0D501286D76}" type="slidenum">
              <a:t>18</a:t>
            </a:fld>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r>
              <a:rPr b="1" lang="en-US" sz="3300" spc="-1" strike="noStrike">
                <a:solidFill>
                  <a:srgbClr val="ffff00"/>
                </a:solidFill>
                <a:latin typeface="Arial"/>
              </a:rPr>
              <a:t> </a:t>
            </a:r>
            <a:r>
              <a:rPr b="1" lang="en-US" sz="3600" spc="-1" strike="noStrike">
                <a:solidFill>
                  <a:srgbClr val="ffff00"/>
                </a:solidFill>
                <a:latin typeface="Arial"/>
              </a:rPr>
              <a:t>Requirements</a:t>
            </a:r>
            <a:endParaRPr b="1" lang="en-US" sz="3600" spc="-1" strike="noStrike">
              <a:solidFill>
                <a:srgbClr val="ffff00"/>
              </a:solidFill>
              <a:latin typeface="Arial"/>
            </a:endParaRPr>
          </a:p>
        </p:txBody>
      </p:sp>
      <p:sp>
        <p:nvSpPr>
          <p:cNvPr id="97" name="PlaceHolder 2"/>
          <p:cNvSpPr>
            <a:spLocks noGrp="1"/>
          </p:cNvSpPr>
          <p:nvPr>
            <p:ph/>
          </p:nvPr>
        </p:nvSpPr>
        <p:spPr>
          <a:xfrm>
            <a:off x="609480" y="1933560"/>
            <a:ext cx="5562720" cy="431496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make available, free of charge at a reasonable time and place, to all employees at risk of exposure within 10 working days of initial assignment unles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has had the vaccination</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tibody testing reveals immunity</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vaccination must be performed by a licensed healthcare professional</a:t>
            </a:r>
            <a:endParaRPr b="0" lang="en-US" sz="2300" spc="-1" strike="noStrike">
              <a:solidFill>
                <a:srgbClr val="ffffff"/>
              </a:solidFill>
              <a:latin typeface="Arial"/>
            </a:endParaRPr>
          </a:p>
        </p:txBody>
      </p:sp>
      <p:pic>
        <p:nvPicPr>
          <p:cNvPr id="98" name="HBVaccine%20copy" descr=""/>
          <p:cNvPicPr/>
          <p:nvPr/>
        </p:nvPicPr>
        <p:blipFill>
          <a:blip r:embed="rId1"/>
          <a:srcRect l="0" t="1542" r="0" b="5997"/>
          <a:stretch/>
        </p:blipFill>
        <p:spPr>
          <a:xfrm>
            <a:off x="6673680" y="2057400"/>
            <a:ext cx="1708200" cy="26668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C1A7718-ACCF-4FA1-8A31-9C2780C214A1}" type="slidenum">
              <a:t>19</a:t>
            </a:fld>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5.6 million workers in health care and other facilities are at risk of exposure to bloodborne pathogens such as human immunodeficiency virus (HIV – the virus that causes AIDS), the hepatitis B virus (HBV), and the hepatitis C virus (HCV)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38DD7ED-CC59-40F3-95DD-B95E0D1C36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br>
              <a:rPr sz="4000"/>
            </a:br>
            <a:r>
              <a:rPr b="1" lang="en-US" sz="3600" spc="-1" strike="noStrike">
                <a:solidFill>
                  <a:srgbClr val="ffff00"/>
                </a:solidFill>
                <a:latin typeface="Arial"/>
              </a:rPr>
              <a:t>Requirements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100" name="PlaceHolder 2"/>
          <p:cNvSpPr>
            <a:spLocks noGrp="1"/>
          </p:cNvSpPr>
          <p:nvPr>
            <p:ph/>
          </p:nvPr>
        </p:nvSpPr>
        <p:spPr>
          <a:xfrm>
            <a:off x="685800" y="19670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vided even if employee initially declines but later decides to accept the vaccin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who decline the vaccination must sign a declination form</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re not required to participate in antibody prescreening program to receive vaccination seri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ation booster doses must be provided if recommended by the U.S. Public Health Servic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11A9B26-9590-4D2C-8B65-CB0A321E55CE}" type="slidenum">
              <a:t>20</a:t>
            </a:fld>
          </a:p>
        </p:txBody>
      </p:sp>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at to do if an exposure occurs?</a:t>
            </a:r>
            <a:endParaRPr b="1" lang="en-US" sz="3800" spc="-1" strike="noStrike">
              <a:solidFill>
                <a:srgbClr val="ffff00"/>
              </a:solidFill>
              <a:latin typeface="Arial"/>
            </a:endParaRPr>
          </a:p>
        </p:txBody>
      </p:sp>
      <p:sp>
        <p:nvSpPr>
          <p:cNvPr id="102" name="PlaceHolder 2"/>
          <p:cNvSpPr>
            <a:spLocks noGrp="1"/>
          </p:cNvSpPr>
          <p:nvPr>
            <p:ph/>
          </p:nvPr>
        </p:nvSpPr>
        <p:spPr>
          <a:xfrm>
            <a:off x="685800" y="1981080"/>
            <a:ext cx="7238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exposed area with soap and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sh splashes to nose, mouth, or skin with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gate eyes with water or salin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the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he worker to a healthcare professiona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6BF6DBE-AB56-417E-B2D3-BBE17A3C89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ost-Exposure Follow-Up </a:t>
            </a:r>
            <a:endParaRPr b="1" lang="en-US" sz="3400" spc="-1" strike="noStrike">
              <a:solidFill>
                <a:srgbClr val="ffff00"/>
              </a:solidFill>
              <a:latin typeface="Arial"/>
            </a:endParaRPr>
          </a:p>
        </p:txBody>
      </p:sp>
      <p:sp>
        <p:nvSpPr>
          <p:cNvPr id="104" name="PlaceHolder 2"/>
          <p:cNvSpPr>
            <a:spLocks noGrp="1"/>
          </p:cNvSpPr>
          <p:nvPr>
            <p:ph/>
          </p:nvPr>
        </p:nvSpPr>
        <p:spPr>
          <a:xfrm>
            <a:off x="762120" y="1371240"/>
            <a:ext cx="7772400" cy="441972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routes of exposure and how exposure occur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injuries from contaminated sharps in a sharps injury log, if requi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nsent from the source individual and the exposed employee and test blood as soon as possible after the exposure incident</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isk counseling and offer post-exposure protective treatment for disease when medically indicated in accordance with current U.S. Public Health Service guidelines</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ritten opinion of findings to employer and copy to employee within 15 days of the evalu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B755B92-1377-44CF-8F1B-B87BF192CDA7}" type="slidenum">
              <a:t>22</a:t>
            </a:fld>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ohazard Warning Labels</a:t>
            </a:r>
            <a:endParaRPr b="1" lang="en-US" sz="4000" spc="-1" strike="noStrike">
              <a:solidFill>
                <a:srgbClr val="ffff00"/>
              </a:solidFill>
              <a:latin typeface="Arial"/>
            </a:endParaRPr>
          </a:p>
        </p:txBody>
      </p:sp>
      <p:sp>
        <p:nvSpPr>
          <p:cNvPr id="106" name="PlaceHolder 2"/>
          <p:cNvSpPr>
            <a:spLocks noGrp="1"/>
          </p:cNvSpPr>
          <p:nvPr>
            <p:ph/>
          </p:nvPr>
        </p:nvSpPr>
        <p:spPr>
          <a:xfrm>
            <a:off x="685800" y="1676520"/>
            <a:ext cx="4952880" cy="3147840"/>
          </a:xfrm>
          <a:prstGeom prst="rect">
            <a:avLst/>
          </a:prstGeom>
          <a:noFill/>
          <a:ln w="0">
            <a:noFill/>
          </a:ln>
        </p:spPr>
        <p:txBody>
          <a:bodyPr lIns="92160" rIns="92160" tIns="46080" bIns="46080" anchor="t">
            <a:normAutofit fontScale="89000"/>
          </a:bodyPr>
          <a:p>
            <a:pPr marL="305280" indent="-3052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arning labels required on:</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ainers of regulated waste</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frigerators and freezers containing blood and other potentially infectious materials</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ther containers used to store, transport, or ship blood or other potentially infectious materials</a:t>
            </a:r>
            <a:endParaRPr b="0" lang="en-US" sz="2300" spc="-1" strike="noStrike">
              <a:solidFill>
                <a:srgbClr val="ffffff"/>
              </a:solidFill>
              <a:latin typeface="Arial"/>
            </a:endParaRPr>
          </a:p>
          <a:p>
            <a:pPr marL="305280" indent="-305280">
              <a:lnSpc>
                <a:spcPct val="90000"/>
              </a:lnSpc>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 bags or containers may be substituted for labels</a:t>
            </a:r>
            <a:endParaRPr b="0" lang="en-US" sz="2200" spc="-1" strike="noStrike">
              <a:solidFill>
                <a:srgbClr val="ffffff"/>
              </a:solidFill>
              <a:latin typeface="Arial"/>
            </a:endParaRPr>
          </a:p>
        </p:txBody>
      </p:sp>
      <p:pic>
        <p:nvPicPr>
          <p:cNvPr id="107" name="Logo%20copy" descr=""/>
          <p:cNvPicPr/>
          <p:nvPr/>
        </p:nvPicPr>
        <p:blipFill>
          <a:blip r:embed="rId1"/>
          <a:stretch/>
        </p:blipFill>
        <p:spPr>
          <a:xfrm>
            <a:off x="6172200" y="1871640"/>
            <a:ext cx="2139840" cy="194148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DF5EBAD-4B89-4CA1-84AB-F5C324156AC7}" type="slidenum">
              <a:t>23</a:t>
            </a:fld>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Requirements</a:t>
            </a:r>
            <a:endParaRPr b="1" lang="en-US" sz="4000" spc="-1" strike="noStrike">
              <a:solidFill>
                <a:srgbClr val="ffff00"/>
              </a:solidFill>
              <a:latin typeface="Arial"/>
            </a:endParaRPr>
          </a:p>
        </p:txBody>
      </p:sp>
      <p:sp>
        <p:nvSpPr>
          <p:cNvPr id="109" name="PlaceHolder 2"/>
          <p:cNvSpPr>
            <a:spLocks noGrp="1"/>
          </p:cNvSpPr>
          <p:nvPr>
            <p:ph/>
          </p:nvPr>
        </p:nvSpPr>
        <p:spPr>
          <a:xfrm>
            <a:off x="533160" y="160020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no cost to employees during working hour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time of initial assignment to a job with occupational exposure and at least annually thereafter</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ditional training needed when existing tasks are modified or new tasks are required which affect the worker’s occupational exposur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intain training records for 3 years</a:t>
            </a:r>
            <a:endParaRPr b="0" lang="en-US" sz="2300" spc="-1" strike="noStrike">
              <a:solidFill>
                <a:srgbClr val="ffffff"/>
              </a:solidFill>
              <a:latin typeface="Arial"/>
            </a:endParaRPr>
          </a:p>
        </p:txBody>
      </p:sp>
      <p:pic>
        <p:nvPicPr>
          <p:cNvPr id="110" name="training" descr=""/>
          <p:cNvPicPr/>
          <p:nvPr/>
        </p:nvPicPr>
        <p:blipFill>
          <a:blip r:embed="rId1"/>
          <a:stretch/>
        </p:blipFill>
        <p:spPr>
          <a:xfrm>
            <a:off x="6095880" y="1724040"/>
            <a:ext cx="2424240" cy="181764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4A4D274-C037-4C53-AA43-660D0AF4B8A6}" type="slidenum">
              <a:t>24</a:t>
            </a:fld>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Elements</a:t>
            </a: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of the standar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pecific exposure control pla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 recogni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engineering controls, work practices and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 question and answer sess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A850602-3455-4BC4-B7E3-4CE46D17FB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Medical Recordkeeping Requirements</a:t>
            </a:r>
            <a:endParaRPr b="1" lang="en-US" sz="3400" spc="-1" strike="noStrike">
              <a:solidFill>
                <a:srgbClr val="ffff00"/>
              </a:solidFill>
              <a:latin typeface="Arial"/>
            </a:endParaRPr>
          </a:p>
        </p:txBody>
      </p:sp>
      <p:sp>
        <p:nvSpPr>
          <p:cNvPr id="114" name="PlaceHolder 2"/>
          <p:cNvSpPr>
            <a:spLocks noGrp="1"/>
          </p:cNvSpPr>
          <p:nvPr>
            <p:ph/>
          </p:nvPr>
        </p:nvSpPr>
        <p:spPr>
          <a:xfrm>
            <a:off x="685800" y="1295280"/>
            <a:ext cx="7772400" cy="472464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name and social security number</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hepatitis B vaccination statu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ults of examinations, medical testing, and post-exposure evaluation and follow-up procedur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care professional’s written opinion</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ormation provided to the health care professiona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medical records must be kept confidential and not disclosed or reported without the employee’s written consent (unless required by law)</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records must be maintained for duration of employment plus 30 years according to OSHA’s rule governing access to employee exposure and medical records</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0E5E368-DE29-4208-B5D5-F0AD32167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arps Injury Log</a:t>
            </a:r>
            <a:endParaRPr b="1" lang="en-US" sz="4000" spc="-1" strike="noStrike">
              <a:solidFill>
                <a:srgbClr val="ffff00"/>
              </a:solidFill>
              <a:latin typeface="Arial"/>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must maintain a sharps injury log for the recording of injuries from contaminated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 must be maintained in a way that ensures employee privacy and must contain, at a minimum:</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and brand of device involved in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the incid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12ADED5-06D3-4201-A5EF-1CE67B19A6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18" name="PlaceHolder 2"/>
          <p:cNvSpPr>
            <a:spLocks noGrp="1"/>
          </p:cNvSpPr>
          <p:nvPr>
            <p:ph/>
          </p:nvPr>
        </p:nvSpPr>
        <p:spPr>
          <a:xfrm>
            <a:off x="533520" y="1981080"/>
            <a:ext cx="81532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is standard not only will prevent hepatitis B cases, but also will significantly reduce the risk of workers contracting AIDS, Hepatitis C, or other bloodborne dise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0D52E3F-9C65-46DD-970A-F03CC579BEDA}" type="slidenum">
              <a:t>28</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o is covered by the standard?</a:t>
            </a:r>
            <a:endParaRPr b="1" lang="en-US" sz="38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mployees who could be “reasonably anticipated” as the result of performing their job duties to face contact with blood and other potentially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ood Samaritan” acts such as assisting a co-worker with a nosebleed would not be considered occupational exposu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754873F-90AA-4064-BDC2-FC69A34E35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Workers Who are at Risk</a:t>
            </a:r>
            <a:endParaRPr b="1" lang="en-US" sz="4000" spc="-1" strike="noStrike">
              <a:solidFill>
                <a:srgbClr val="ffff00"/>
              </a:solidFill>
              <a:latin typeface="Arial"/>
            </a:endParaRPr>
          </a:p>
        </p:txBody>
      </p:sp>
      <p:sp>
        <p:nvSpPr>
          <p:cNvPr id="56" name="PlaceHolder 2"/>
          <p:cNvSpPr>
            <a:spLocks noGrp="1"/>
          </p:cNvSpPr>
          <p:nvPr>
            <p:ph/>
          </p:nvPr>
        </p:nvSpPr>
        <p:spPr>
          <a:xfrm>
            <a:off x="691920" y="1447560"/>
            <a:ext cx="7994520" cy="48006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ians, nurses and emergency room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derlies, housekeeping personnel, and laundry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tists and other dental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boratory and blood bank technologists and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examin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t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w enforcement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refight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ramedics and emergency medical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yone providing first-response medical care</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waste treatment employe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me healthcare workers</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22E665A-BCA3-4ACA-9A9F-377594CA3ABE}" type="slidenum">
              <a:t>4</a:t>
            </a:fld>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exposure occur?</a:t>
            </a: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mon:  needlestic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s from other contaminated sharps (scalpels, broken glass, etc.)</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of mucous membranes (for example, the eye, nose, mouth) or broken (cut or abraded) skin with contaminated bl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C54C77A-9898-4CE1-8F1C-AD82C2AEC3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es jobs and tasks where occupational exposure to blood or other potentially infectious material occurs </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scribes how the employer wil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engineering and work practice control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use of personal protective equipment</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training</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medical surveillance</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hepatitis B vaccination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signs and labels</a:t>
            </a:r>
            <a:endParaRPr b="0" lang="en-US" sz="2300" spc="-1" strike="noStrike">
              <a:solidFill>
                <a:srgbClr val="ffffff"/>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99A027E-1BF1-49AB-B9EB-E00F427D79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2" name="PlaceHolder 2"/>
          <p:cNvSpPr>
            <a:spLocks noGrp="1"/>
          </p:cNvSpPr>
          <p:nvPr>
            <p:ph/>
          </p:nvPr>
        </p:nvSpPr>
        <p:spPr>
          <a:xfrm>
            <a:off x="456840" y="1447920"/>
            <a:ext cx="807732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plan required </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reviewed at least annually to reflect changes in:</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procedures, or assignments which affect exposure, and</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will eliminate or reduce exposure</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eview must document employer’s consideration and implementation of safer medical device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olicit input from potentially exposed employees in the identification, evaluation and selection of engineering and work practice control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accessible to employees</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777623B-B893-4D27-9914-4238A4C625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versal Precautions</a:t>
            </a:r>
            <a:endParaRPr b="1" lang="en-US" sz="40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 all human blood and certain body fluids as if they are infectiou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observed in all situations where there is a potential for contact with blood or other potentially infectious materia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1ABCDF2-B538-4306-B43E-EBFD062ED007}" type="slidenum">
              <a:t>8</a:t>
            </a:fld>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gineering and</a:t>
            </a:r>
            <a:br>
              <a:rPr sz="3600"/>
            </a:br>
            <a:r>
              <a:rPr b="1" lang="en-US" sz="3600" spc="-1" strike="noStrike">
                <a:solidFill>
                  <a:srgbClr val="ffff00"/>
                </a:solidFill>
                <a:latin typeface="Arial"/>
              </a:rPr>
              <a:t>Work Practice Controls</a:t>
            </a:r>
            <a:endParaRPr b="1" lang="en-US" sz="36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are the primary methods used to control the transmission of HBV and HIV</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ccupational exposure remains after engineering and work practice controls are put in place, personal protective equipment (PPE) must be used</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74B2A61-9965-4BA7-9176-39AE7675C1F2}" type="slidenum">
              <a:t>9</a:t>
            </a:fld>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cp:keywords/>
  <dc:language>en-US</dc:language>
  <cp:lastModifiedBy>sxanos</cp:lastModifiedBy>
  <cp:lastPrinted>2000-07-07T15:47:20Z</cp:lastPrinted>
  <dcterms:modified xsi:type="dcterms:W3CDTF">2006-12-20T22:24:15Z</dcterms:modified>
  <cp:revision>686</cp:revision>
  <dc:subject/>
  <dc:title>Respirator Standard Photos</dc:title>
</cp:coreProperties>
</file>